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2EF9-ADF7-46AE-9370-57BF9D8BDA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ž má kolem krku modlitební šá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FAE-9105-4A3C-A2CF-98DD5E7F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489-8AFD-4639-946E-1818F318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745-4C8C-40DB-A9F6-E8680C7E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D24-F61E-4A88-BDC9-359EA4D9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83D-D21E-4AEC-BA5B-55281FB5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95F-6F6D-49F6-A1A1-286132E2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B6D-63B0-445B-B836-C5681926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FB0-F50E-4AF9-96A6-F3C5BAC5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29B-24AC-4E57-9F51-25962BDE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2C2-76C3-4A40-82F8-2751C98A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E3F-0C40-4C3E-8B33-11BCB07D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7A0-C7B8-4A61-A9FC-A9929C39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16CF-77A8-4B78-8770-983D74A0B2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kc@diecezehk.cz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31880"/>
            <a:ext cx="9144000" cy="612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0"/>
            <a:ext cx="72741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ŽIDOVSTVÍ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4936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400800"/>
            <a:ext cx="8642160" cy="45972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66"/>
                </a:solidFill>
                <a:latin typeface="Arial"/>
              </a:rPr>
              <a:t>Malý průvodce židovstvím pro malé křesť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62440" y="0"/>
            <a:ext cx="52815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0c0c0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Bible je nejposvátnější kniha Ž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31780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židovské Bibli jsou knihy, které vyprávějí o Boží péči o lid, který si Bůh vyvol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ovská svatá Písma slibují příchod Mesiáše – Zachrá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5734080"/>
            <a:ext cx="1079280" cy="865080"/>
          </a:xfrm>
          <a:custGeom>
            <a:avLst/>
            <a:gdLst>
              <a:gd name="textAreaLeft" fmla="*/ 55800 w 1079280"/>
              <a:gd name="textAreaRight" fmla="*/ 1023480 w 1079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13473" y="3837"/>
                </a:moveTo>
                <a:lnTo>
                  <a:pt x="16049" y="6448"/>
                </a:ln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lnTo>
                  <a:pt x="20436" y="10800"/>
                </a:lnTo>
                <a:lnTo>
                  <a:pt x="18782" y="10800"/>
                </a:lnTo>
                <a:lnTo>
                  <a:pt x="18782" y="17989"/>
                </a:lnTo>
                <a:lnTo>
                  <a:pt x="8164" y="17989"/>
                </a:lnTo>
                <a:lnTo>
                  <a:pt x="8164" y="10800"/>
                </a:lnTo>
                <a:lnTo>
                  <a:pt x="6510" y="10800"/>
                </a:lnTo>
                <a:close/>
              </a:path>
              <a:path fill="darkenLess" w="26946" h="21600">
                <a:moveTo>
                  <a:pt x="16049" y="6448"/>
                </a:move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close/>
              </a:path>
              <a:path fill="darkenLess" w="26946" h="21600">
                <a:moveTo>
                  <a:pt x="12550" y="14299"/>
                </a:moveTo>
                <a:lnTo>
                  <a:pt x="14396" y="14299"/>
                </a:lnTo>
                <a:lnTo>
                  <a:pt x="14396" y="17989"/>
                </a:lnTo>
                <a:lnTo>
                  <a:pt x="18782" y="17989"/>
                </a:lnTo>
                <a:lnTo>
                  <a:pt x="18782" y="10800"/>
                </a:lnTo>
                <a:lnTo>
                  <a:pt x="8164" y="10800"/>
                </a:lnTo>
                <a:lnTo>
                  <a:pt x="8164" y="17989"/>
                </a:lnTo>
                <a:lnTo>
                  <a:pt x="1255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  <a:hlinkClick r:id="rId3"/>
          </p:cNvPr>
          <p:cNvSpPr/>
          <p:nvPr/>
        </p:nvSpPr>
        <p:spPr>
          <a:xfrm>
            <a:off x="2916360" y="5734080"/>
            <a:ext cx="1152360" cy="863640"/>
          </a:xfrm>
          <a:custGeom>
            <a:avLst/>
            <a:gdLst>
              <a:gd name="textAreaLeft" fmla="*/ 55800 w 1152360"/>
              <a:gd name="textAreaRight" fmla="*/ 1096560 w 1152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18" h="21600">
                <a:moveTo>
                  <a:pt x="15514" y="14281"/>
                </a:moveTo>
                <a:lnTo>
                  <a:pt x="15514" y="12323"/>
                </a:lnTo>
                <a:cubicBezTo>
                  <a:pt x="15514" y="11496"/>
                  <a:pt x="15845" y="10800"/>
                  <a:pt x="16446" y="10800"/>
                </a:cubicBezTo>
                <a:cubicBezTo>
                  <a:pt x="17577" y="10800"/>
                  <a:pt x="18474" y="9434"/>
                  <a:pt x="18474" y="7849"/>
                </a:cubicBezTo>
                <a:cubicBezTo>
                  <a:pt x="18474" y="5534"/>
                  <a:pt x="16620" y="3794"/>
                  <a:pt x="14409" y="3794"/>
                </a:cubicBezTo>
                <a:cubicBezTo>
                  <a:pt x="12198" y="3794"/>
                  <a:pt x="10527" y="5534"/>
                  <a:pt x="10527" y="7849"/>
                </a:cubicBezTo>
                <a:lnTo>
                  <a:pt x="12381" y="7849"/>
                </a:lnTo>
                <a:cubicBezTo>
                  <a:pt x="12381" y="6709"/>
                  <a:pt x="13304" y="5821"/>
                  <a:pt x="14409" y="5821"/>
                </a:cubicBezTo>
                <a:cubicBezTo>
                  <a:pt x="15514" y="5821"/>
                  <a:pt x="16446" y="6709"/>
                  <a:pt x="16446" y="7849"/>
                </a:cubicBezTo>
                <a:cubicBezTo>
                  <a:pt x="16446" y="8589"/>
                  <a:pt x="15976" y="9320"/>
                  <a:pt x="15514" y="9320"/>
                </a:cubicBezTo>
                <a:cubicBezTo>
                  <a:pt x="14409" y="9320"/>
                  <a:pt x="13304" y="10800"/>
                  <a:pt x="13304" y="12323"/>
                </a:cubicBezTo>
                <a:lnTo>
                  <a:pt x="13304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435640" y="260280"/>
            <a:ext cx="3456000" cy="2125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Vypráví židovská B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o Ježíšově narození?</a:t>
            </a:r>
            <a:r>
              <a:rPr b="0" lang="cs-CZ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365720"/>
            <a:ext cx="3924360" cy="23414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Ne. O Ježíšově narození vyprávějí některá evangelia a ta do židovské Bible nepatří.</a:t>
            </a:r>
            <a:r>
              <a:rPr b="1" lang="cs-CZ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51640" y="2781360"/>
            <a:ext cx="3095640" cy="1297080"/>
          </a:xfrm>
          <a:custGeom>
            <a:avLst/>
            <a:gdLst>
              <a:gd name="textAreaLeft" fmla="*/ 152640 w 3095640"/>
              <a:gd name="textAreaRight" fmla="*/ 2943000 w 3095640"/>
              <a:gd name="textAreaTop" fmla="*/ 152640 h 1297080"/>
              <a:gd name="textAreaBottom" fmla="*/ 1144440 h 1297080"/>
            </a:gdLst>
            <a:ahLst/>
            <a:rect l="textAreaLeft" t="textAreaTop" r="textAreaRight" b="textAreaBottom"/>
            <a:pathLst>
              <a:path w="515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943" y="21600"/>
                </a:lnTo>
                <a:arcTo wR="3600" hR="3600" stAng="10800000" swAng="5400000"/>
                <a:lnTo>
                  <a:pt x="51543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iskni mezerní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odpově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5734080"/>
            <a:ext cx="1079280" cy="865080"/>
          </a:xfrm>
          <a:custGeom>
            <a:avLst/>
            <a:gdLst>
              <a:gd name="textAreaLeft" fmla="*/ 55800 w 1079280"/>
              <a:gd name="textAreaRight" fmla="*/ 1023480 w 1079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13473" y="3837"/>
                </a:moveTo>
                <a:lnTo>
                  <a:pt x="16049" y="6448"/>
                </a:ln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lnTo>
                  <a:pt x="20436" y="10800"/>
                </a:lnTo>
                <a:lnTo>
                  <a:pt x="18782" y="10800"/>
                </a:lnTo>
                <a:lnTo>
                  <a:pt x="18782" y="17989"/>
                </a:lnTo>
                <a:lnTo>
                  <a:pt x="8164" y="17989"/>
                </a:lnTo>
                <a:lnTo>
                  <a:pt x="8164" y="10800"/>
                </a:lnTo>
                <a:lnTo>
                  <a:pt x="6510" y="10800"/>
                </a:lnTo>
                <a:close/>
              </a:path>
              <a:path fill="darkenLess" w="26946" h="21600">
                <a:moveTo>
                  <a:pt x="16049" y="6448"/>
                </a:move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close/>
              </a:path>
              <a:path fill="darkenLess" w="26946" h="21600">
                <a:moveTo>
                  <a:pt x="12550" y="14299"/>
                </a:moveTo>
                <a:lnTo>
                  <a:pt x="14396" y="14299"/>
                </a:lnTo>
                <a:lnTo>
                  <a:pt x="14396" y="17989"/>
                </a:lnTo>
                <a:lnTo>
                  <a:pt x="18782" y="17989"/>
                </a:lnTo>
                <a:lnTo>
                  <a:pt x="18782" y="10800"/>
                </a:lnTo>
                <a:lnTo>
                  <a:pt x="8164" y="10800"/>
                </a:lnTo>
                <a:lnTo>
                  <a:pt x="8164" y="17989"/>
                </a:lnTo>
                <a:lnTo>
                  <a:pt x="1255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Židovské svá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é neslaví Vánoce ani Velikonoce stejně jako křesťa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aví mnoho vlastních svátků, kterými si připomínají Boží pomoc a ochra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důležitější židovský svátek se jmenuj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ESA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1628640"/>
            <a:ext cx="4164120" cy="417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93080" y="5805360"/>
            <a:ext cx="1079280" cy="865440"/>
          </a:xfrm>
          <a:custGeom>
            <a:avLst/>
            <a:gdLst>
              <a:gd name="textAreaLeft" fmla="*/ 55800 w 1079280"/>
              <a:gd name="textAreaRight" fmla="*/ 1023480 w 1079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6935" h="21600">
                <a:moveTo>
                  <a:pt x="0" y="0"/>
                </a:moveTo>
                <a:lnTo>
                  <a:pt x="26935" y="0"/>
                </a:lnTo>
                <a:lnTo>
                  <a:pt x="26935" y="21600"/>
                </a:lnTo>
                <a:lnTo>
                  <a:pt x="0" y="21600"/>
                </a:lnTo>
                <a:close/>
              </a:path>
              <a:path fill="lightenLess" w="26935" h="21600">
                <a:moveTo>
                  <a:pt x="0" y="0"/>
                </a:moveTo>
                <a:lnTo>
                  <a:pt x="26935" y="0"/>
                </a:lnTo>
                <a:lnTo>
                  <a:pt x="25535" y="1400"/>
                </a:lnTo>
                <a:lnTo>
                  <a:pt x="1400" y="1400"/>
                </a:lnTo>
                <a:close/>
              </a:path>
              <a:path fill="darken" w="26935" h="21600">
                <a:moveTo>
                  <a:pt x="26935" y="0"/>
                </a:moveTo>
                <a:lnTo>
                  <a:pt x="26935" y="21600"/>
                </a:lnTo>
                <a:lnTo>
                  <a:pt x="25535" y="20200"/>
                </a:lnTo>
                <a:lnTo>
                  <a:pt x="25535" y="1400"/>
                </a:lnTo>
                <a:close/>
              </a:path>
              <a:path fill="darkenLess" w="26935" h="21600">
                <a:moveTo>
                  <a:pt x="2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5" y="20200"/>
                </a:lnTo>
                <a:close/>
              </a:path>
              <a:path fill="lighten" w="2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5" h="21600">
                <a:moveTo>
                  <a:pt x="13467" y="3837"/>
                </a:moveTo>
                <a:lnTo>
                  <a:pt x="16044" y="6448"/>
                </a:lnTo>
                <a:lnTo>
                  <a:pt x="16044" y="4707"/>
                </a:lnTo>
                <a:lnTo>
                  <a:pt x="17819" y="4707"/>
                </a:lnTo>
                <a:lnTo>
                  <a:pt x="17819" y="8224"/>
                </a:lnTo>
                <a:lnTo>
                  <a:pt x="20430" y="10800"/>
                </a:lnTo>
                <a:lnTo>
                  <a:pt x="18777" y="10800"/>
                </a:lnTo>
                <a:lnTo>
                  <a:pt x="18777" y="17989"/>
                </a:lnTo>
                <a:lnTo>
                  <a:pt x="8158" y="17989"/>
                </a:lnTo>
                <a:lnTo>
                  <a:pt x="8158" y="10800"/>
                </a:lnTo>
                <a:lnTo>
                  <a:pt x="6504" y="10800"/>
                </a:lnTo>
                <a:close/>
              </a:path>
              <a:path fill="darkenLess" w="26935" h="21600">
                <a:moveTo>
                  <a:pt x="16044" y="6448"/>
                </a:moveTo>
                <a:lnTo>
                  <a:pt x="16044" y="4707"/>
                </a:lnTo>
                <a:lnTo>
                  <a:pt x="17819" y="4707"/>
                </a:lnTo>
                <a:lnTo>
                  <a:pt x="17819" y="8224"/>
                </a:lnTo>
                <a:close/>
              </a:path>
              <a:path fill="darkenLess" w="26935" h="21600">
                <a:moveTo>
                  <a:pt x="12545" y="14299"/>
                </a:moveTo>
                <a:lnTo>
                  <a:pt x="14390" y="14299"/>
                </a:lnTo>
                <a:lnTo>
                  <a:pt x="14390" y="17989"/>
                </a:lnTo>
                <a:lnTo>
                  <a:pt x="18777" y="17989"/>
                </a:lnTo>
                <a:lnTo>
                  <a:pt x="18777" y="10800"/>
                </a:lnTo>
                <a:lnTo>
                  <a:pt x="8158" y="10800"/>
                </a:lnTo>
                <a:lnTo>
                  <a:pt x="8158" y="17989"/>
                </a:lnTo>
                <a:lnTo>
                  <a:pt x="1254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  <a:hlinkClick r:id="rId3"/>
          </p:cNvPr>
          <p:cNvSpPr/>
          <p:nvPr/>
        </p:nvSpPr>
        <p:spPr>
          <a:xfrm>
            <a:off x="5076720" y="5805360"/>
            <a:ext cx="1152720" cy="863640"/>
          </a:xfrm>
          <a:custGeom>
            <a:avLst/>
            <a:gdLst>
              <a:gd name="textAreaLeft" fmla="*/ 55800 w 1152720"/>
              <a:gd name="textAreaRight" fmla="*/ 1096920 w 1152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8827" h="21600">
                <a:moveTo>
                  <a:pt x="0" y="0"/>
                </a:moveTo>
                <a:lnTo>
                  <a:pt x="28827" y="0"/>
                </a:lnTo>
                <a:lnTo>
                  <a:pt x="28827" y="21600"/>
                </a:lnTo>
                <a:lnTo>
                  <a:pt x="0" y="21600"/>
                </a:lnTo>
                <a:close/>
              </a:path>
              <a:path fill="lightenLess" w="28827" h="21600">
                <a:moveTo>
                  <a:pt x="0" y="0"/>
                </a:moveTo>
                <a:lnTo>
                  <a:pt x="28827" y="0"/>
                </a:lnTo>
                <a:lnTo>
                  <a:pt x="27427" y="1400"/>
                </a:lnTo>
                <a:lnTo>
                  <a:pt x="1400" y="1400"/>
                </a:lnTo>
                <a:close/>
              </a:path>
              <a:path fill="darken" w="28827" h="21600">
                <a:moveTo>
                  <a:pt x="28827" y="0"/>
                </a:moveTo>
                <a:lnTo>
                  <a:pt x="28827" y="21600"/>
                </a:lnTo>
                <a:lnTo>
                  <a:pt x="27427" y="20200"/>
                </a:lnTo>
                <a:lnTo>
                  <a:pt x="27427" y="1400"/>
                </a:lnTo>
                <a:close/>
              </a:path>
              <a:path fill="darkenLess" w="28827" h="21600">
                <a:moveTo>
                  <a:pt x="28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27" y="20200"/>
                </a:lnTo>
                <a:close/>
              </a:path>
              <a:path fill="lighten" w="28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27" h="21600">
                <a:moveTo>
                  <a:pt x="1441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27" h="21600">
                <a:moveTo>
                  <a:pt x="15519" y="14281"/>
                </a:moveTo>
                <a:lnTo>
                  <a:pt x="15519" y="12323"/>
                </a:lnTo>
                <a:cubicBezTo>
                  <a:pt x="15519" y="11496"/>
                  <a:pt x="15850" y="10800"/>
                  <a:pt x="16450" y="10800"/>
                </a:cubicBezTo>
                <a:cubicBezTo>
                  <a:pt x="17582" y="10800"/>
                  <a:pt x="18478" y="9434"/>
                  <a:pt x="18478" y="7849"/>
                </a:cubicBezTo>
                <a:cubicBezTo>
                  <a:pt x="18478" y="5534"/>
                  <a:pt x="16624" y="3794"/>
                  <a:pt x="14413" y="3794"/>
                </a:cubicBezTo>
                <a:cubicBezTo>
                  <a:pt x="12203" y="3794"/>
                  <a:pt x="10532" y="5534"/>
                  <a:pt x="10532" y="7849"/>
                </a:cubicBezTo>
                <a:lnTo>
                  <a:pt x="12386" y="7849"/>
                </a:lnTo>
                <a:cubicBezTo>
                  <a:pt x="12386" y="6709"/>
                  <a:pt x="13308" y="5821"/>
                  <a:pt x="14413" y="5821"/>
                </a:cubicBezTo>
                <a:cubicBezTo>
                  <a:pt x="15519" y="5821"/>
                  <a:pt x="16450" y="6709"/>
                  <a:pt x="16450" y="7849"/>
                </a:cubicBezTo>
                <a:cubicBezTo>
                  <a:pt x="16450" y="8589"/>
                  <a:pt x="15980" y="9320"/>
                  <a:pt x="15519" y="9320"/>
                </a:cubicBezTo>
                <a:cubicBezTo>
                  <a:pt x="14413" y="9320"/>
                  <a:pt x="13308" y="10800"/>
                  <a:pt x="13308" y="12323"/>
                </a:cubicBezTo>
                <a:lnTo>
                  <a:pt x="13308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333360"/>
            <a:ext cx="4392360" cy="27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3300"/>
                </a:solidFill>
                <a:latin typeface="Arial"/>
              </a:rPr>
              <a:t>Obrázek ti napoví, </a:t>
            </a:r>
            <a:br>
              <a:rPr sz="2800"/>
            </a:br>
            <a:r>
              <a:rPr b="1" lang="cs-CZ" sz="2800" spc="-1" strike="noStrike">
                <a:solidFill>
                  <a:srgbClr val="993300"/>
                </a:solidFill>
                <a:latin typeface="Arial"/>
              </a:rPr>
              <a:t>co slaví Židé o svátku PES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3300"/>
                </a:solidFill>
                <a:latin typeface="Arial"/>
              </a:rPr>
              <a:t>Dokážeš vyprávět, co vše pro Židy Bůh vykonal?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724280"/>
            <a:ext cx="4319640" cy="13737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"/>
              </a:rPr>
              <a:t>Vysvobození Židů </a:t>
            </a:r>
            <a:br>
              <a:rPr sz="2800"/>
            </a:br>
            <a:r>
              <a:rPr b="1" lang="cs-CZ" sz="2800" spc="-1" strike="noStrike">
                <a:solidFill>
                  <a:srgbClr val="ffcc00"/>
                </a:solidFill>
                <a:latin typeface="Arial"/>
              </a:rPr>
              <a:t>z egyptského otroctví, Bo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Moses parting the red sea"/>
          <p:cNvPicPr/>
          <p:nvPr/>
        </p:nvPicPr>
        <p:blipFill>
          <a:blip r:embed="rId2"/>
          <a:stretch/>
        </p:blipFill>
        <p:spPr>
          <a:xfrm>
            <a:off x="4859280" y="333360"/>
            <a:ext cx="4091040" cy="4896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524720" y="573408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13478" y="3837"/>
                </a:moveTo>
                <a:lnTo>
                  <a:pt x="16054" y="6448"/>
                </a:ln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lnTo>
                  <a:pt x="20441" y="10800"/>
                </a:lnTo>
                <a:lnTo>
                  <a:pt x="18787" y="10800"/>
                </a:lnTo>
                <a:lnTo>
                  <a:pt x="18787" y="17989"/>
                </a:lnTo>
                <a:lnTo>
                  <a:pt x="8168" y="17989"/>
                </a:lnTo>
                <a:lnTo>
                  <a:pt x="8168" y="10800"/>
                </a:lnTo>
                <a:lnTo>
                  <a:pt x="6515" y="10800"/>
                </a:lnTo>
                <a:close/>
              </a:path>
              <a:path fill="darkenLess" w="26955" h="21600">
                <a:moveTo>
                  <a:pt x="16054" y="6448"/>
                </a:move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close/>
              </a:path>
              <a:path fill="darkenLess" w="26955" h="21600">
                <a:moveTo>
                  <a:pt x="12555" y="14299"/>
                </a:moveTo>
                <a:lnTo>
                  <a:pt x="14400" y="14299"/>
                </a:lnTo>
                <a:lnTo>
                  <a:pt x="14400" y="17989"/>
                </a:lnTo>
                <a:lnTo>
                  <a:pt x="18787" y="17989"/>
                </a:lnTo>
                <a:lnTo>
                  <a:pt x="18787" y="10800"/>
                </a:lnTo>
                <a:lnTo>
                  <a:pt x="8168" y="10800"/>
                </a:lnTo>
                <a:lnTo>
                  <a:pt x="8168" y="17989"/>
                </a:lnTo>
                <a:lnTo>
                  <a:pt x="1255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3284640"/>
            <a:ext cx="3095640" cy="1296720"/>
          </a:xfrm>
          <a:custGeom>
            <a:avLst/>
            <a:gdLst>
              <a:gd name="textAreaLeft" fmla="*/ 152640 w 3095640"/>
              <a:gd name="textAreaRight" fmla="*/ 2943000 w 3095640"/>
              <a:gd name="textAreaTop" fmla="*/ 152640 h 1296720"/>
              <a:gd name="textAreaBottom" fmla="*/ 1144080 h 1296720"/>
            </a:gdLst>
            <a:ahLst/>
            <a:rect l="textAreaLeft" t="textAreaTop" r="textAreaRight" b="textAreaBottom"/>
            <a:pathLst>
              <a:path w="5155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957" y="21600"/>
                </a:lnTo>
                <a:arcTo wR="3600" hR="3600" stAng="10800000" swAng="5400000"/>
                <a:lnTo>
                  <a:pt x="51557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iskni mezerní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odpově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pracovalo Katechetické a pedagogické centrum Biskupství královéhradec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Prezentaci je možno kopírovat a využívat jen ke vzdělávacím účelům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Kontakt: </a:t>
            </a: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kc@diecezehk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a připomínky a náměty předem děkuje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708360" y="2492280"/>
            <a:ext cx="19670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66"/>
                </a:solidFill>
                <a:latin typeface="Arial"/>
              </a:rPr>
              <a:t>Nápově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341360"/>
            <a:ext cx="3961080" cy="223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odobném ovále na snímku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te pět otáz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teré dostanete kliknut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pověď (v nadpise sním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další in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1413000"/>
            <a:ext cx="3959280" cy="22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iknutím na t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meček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átíte k otázk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snímku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4221000"/>
            <a:ext cx="4392720" cy="2159280"/>
          </a:xfrm>
          <a:prstGeom prst="ellipse">
            <a:avLst/>
          </a:prstGeom>
          <a:solidFill>
            <a:srgbClr val="99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iknutím na otaz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dostanete 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olní otáz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149720"/>
            <a:ext cx="3888000" cy="2158920"/>
          </a:xfrm>
          <a:prstGeom prst="ellipse">
            <a:avLst/>
          </a:prstGeom>
          <a:solidFill>
            <a:srgbClr val="00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iknutím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ipku získá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lší in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půvo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áz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20000" y="2133720"/>
            <a:ext cx="1079280" cy="865080"/>
          </a:xfrm>
          <a:custGeom>
            <a:avLst/>
            <a:gdLst>
              <a:gd name="textAreaLeft" fmla="*/ 55800 w 1079280"/>
              <a:gd name="textAreaRight" fmla="*/ 1023480 w 1079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13473" y="3837"/>
                </a:moveTo>
                <a:lnTo>
                  <a:pt x="16049" y="6448"/>
                </a:ln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lnTo>
                  <a:pt x="20436" y="10800"/>
                </a:lnTo>
                <a:lnTo>
                  <a:pt x="18782" y="10800"/>
                </a:lnTo>
                <a:lnTo>
                  <a:pt x="18782" y="17989"/>
                </a:lnTo>
                <a:lnTo>
                  <a:pt x="8164" y="17989"/>
                </a:lnTo>
                <a:lnTo>
                  <a:pt x="8164" y="10800"/>
                </a:lnTo>
                <a:lnTo>
                  <a:pt x="6510" y="10800"/>
                </a:lnTo>
                <a:close/>
              </a:path>
              <a:path fill="darkenLess" w="26946" h="21600">
                <a:moveTo>
                  <a:pt x="16049" y="6448"/>
                </a:move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close/>
              </a:path>
              <a:path fill="darkenLess" w="26946" h="21600">
                <a:moveTo>
                  <a:pt x="12550" y="14299"/>
                </a:moveTo>
                <a:lnTo>
                  <a:pt x="14396" y="14299"/>
                </a:lnTo>
                <a:lnTo>
                  <a:pt x="14396" y="17989"/>
                </a:lnTo>
                <a:lnTo>
                  <a:pt x="18782" y="17989"/>
                </a:lnTo>
                <a:lnTo>
                  <a:pt x="18782" y="10800"/>
                </a:lnTo>
                <a:lnTo>
                  <a:pt x="8164" y="10800"/>
                </a:lnTo>
                <a:lnTo>
                  <a:pt x="8164" y="17989"/>
                </a:lnTo>
                <a:lnTo>
                  <a:pt x="1255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/>
          </p:cNvPr>
          <p:cNvSpPr/>
          <p:nvPr/>
        </p:nvSpPr>
        <p:spPr>
          <a:xfrm>
            <a:off x="4572000" y="4797360"/>
            <a:ext cx="1152360" cy="107964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3054" h="21600">
                <a:moveTo>
                  <a:pt x="0" y="0"/>
                </a:moveTo>
                <a:lnTo>
                  <a:pt x="23054" y="0"/>
                </a:lnTo>
                <a:lnTo>
                  <a:pt x="23054" y="21600"/>
                </a:lnTo>
                <a:lnTo>
                  <a:pt x="0" y="21600"/>
                </a:lnTo>
                <a:close/>
              </a:path>
              <a:path fill="lightenLess" w="23054" h="21600">
                <a:moveTo>
                  <a:pt x="0" y="0"/>
                </a:moveTo>
                <a:lnTo>
                  <a:pt x="23054" y="0"/>
                </a:lnTo>
                <a:lnTo>
                  <a:pt x="21654" y="1400"/>
                </a:lnTo>
                <a:lnTo>
                  <a:pt x="1400" y="1400"/>
                </a:lnTo>
                <a:close/>
              </a:path>
              <a:path fill="darken" w="23054" h="21600">
                <a:moveTo>
                  <a:pt x="23054" y="0"/>
                </a:moveTo>
                <a:lnTo>
                  <a:pt x="23054" y="21600"/>
                </a:lnTo>
                <a:lnTo>
                  <a:pt x="21654" y="20200"/>
                </a:lnTo>
                <a:lnTo>
                  <a:pt x="21654" y="1400"/>
                </a:lnTo>
                <a:close/>
              </a:path>
              <a:path fill="darkenLess" w="23054" h="21600">
                <a:moveTo>
                  <a:pt x="23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4" y="20200"/>
                </a:lnTo>
                <a:close/>
              </a:path>
              <a:path fill="lighten" w="23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4" h="21600">
                <a:moveTo>
                  <a:pt x="1152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54" h="21600">
                <a:moveTo>
                  <a:pt x="12633" y="14281"/>
                </a:moveTo>
                <a:lnTo>
                  <a:pt x="12633" y="12323"/>
                </a:lnTo>
                <a:cubicBezTo>
                  <a:pt x="12633" y="11496"/>
                  <a:pt x="12963" y="10800"/>
                  <a:pt x="13564" y="10800"/>
                </a:cubicBezTo>
                <a:cubicBezTo>
                  <a:pt x="14695" y="10800"/>
                  <a:pt x="15592" y="9434"/>
                  <a:pt x="15592" y="7849"/>
                </a:cubicBezTo>
                <a:cubicBezTo>
                  <a:pt x="15592" y="5534"/>
                  <a:pt x="13738" y="3794"/>
                  <a:pt x="11527" y="3794"/>
                </a:cubicBezTo>
                <a:cubicBezTo>
                  <a:pt x="9316" y="3794"/>
                  <a:pt x="7645" y="5534"/>
                  <a:pt x="7645" y="7849"/>
                </a:cubicBezTo>
                <a:lnTo>
                  <a:pt x="9499" y="7849"/>
                </a:lnTo>
                <a:cubicBezTo>
                  <a:pt x="9499" y="6709"/>
                  <a:pt x="10422" y="5821"/>
                  <a:pt x="11527" y="5821"/>
                </a:cubicBezTo>
                <a:cubicBezTo>
                  <a:pt x="12633" y="5821"/>
                  <a:pt x="13564" y="6709"/>
                  <a:pt x="13564" y="7849"/>
                </a:cubicBezTo>
                <a:cubicBezTo>
                  <a:pt x="13564" y="8589"/>
                  <a:pt x="13094" y="9320"/>
                  <a:pt x="12633" y="9320"/>
                </a:cubicBezTo>
                <a:cubicBezTo>
                  <a:pt x="11527" y="9320"/>
                  <a:pt x="10422" y="10800"/>
                  <a:pt x="10422" y="12323"/>
                </a:cubicBezTo>
                <a:lnTo>
                  <a:pt x="10422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4797360"/>
            <a:ext cx="1224000" cy="865080"/>
          </a:xfrm>
          <a:custGeom>
            <a:avLst/>
            <a:gdLst>
              <a:gd name="textAreaLeft" fmla="*/ 55800 w 1224000"/>
              <a:gd name="textAreaRight" fmla="*/ 1168200 w 1224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0558" h="21600">
                <a:moveTo>
                  <a:pt x="0" y="0"/>
                </a:moveTo>
                <a:lnTo>
                  <a:pt x="30558" y="0"/>
                </a:lnTo>
                <a:lnTo>
                  <a:pt x="30558" y="21600"/>
                </a:lnTo>
                <a:lnTo>
                  <a:pt x="0" y="21600"/>
                </a:lnTo>
                <a:close/>
              </a:path>
              <a:path fill="lightenLess" w="30558" h="21600">
                <a:moveTo>
                  <a:pt x="0" y="0"/>
                </a:moveTo>
                <a:lnTo>
                  <a:pt x="30558" y="0"/>
                </a:lnTo>
                <a:lnTo>
                  <a:pt x="29158" y="1400"/>
                </a:lnTo>
                <a:lnTo>
                  <a:pt x="1400" y="1400"/>
                </a:lnTo>
                <a:close/>
              </a:path>
              <a:path fill="darken" w="30558" h="21600">
                <a:moveTo>
                  <a:pt x="30558" y="0"/>
                </a:moveTo>
                <a:lnTo>
                  <a:pt x="30558" y="21600"/>
                </a:lnTo>
                <a:lnTo>
                  <a:pt x="29158" y="20200"/>
                </a:lnTo>
                <a:lnTo>
                  <a:pt x="29158" y="1400"/>
                </a:lnTo>
                <a:close/>
              </a:path>
              <a:path fill="darkenLess" w="30558" h="21600">
                <a:moveTo>
                  <a:pt x="30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8" y="20200"/>
                </a:lnTo>
                <a:close/>
              </a:path>
              <a:path fill="lighten" w="30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8" h="21600">
                <a:moveTo>
                  <a:pt x="8273" y="3794"/>
                </a:moveTo>
                <a:lnTo>
                  <a:pt x="22286" y="10800"/>
                </a:lnTo>
                <a:lnTo>
                  <a:pt x="8273" y="17806"/>
                </a:lnTo>
                <a:close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66"/>
                </a:solidFill>
                <a:latin typeface="Arial"/>
              </a:rPr>
              <a:t>KDO  JSOU  ŽID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844640"/>
            <a:ext cx="3527280" cy="172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1844640"/>
            <a:ext cx="3527640" cy="172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141720"/>
            <a:ext cx="4392720" cy="1727280"/>
          </a:xfrm>
          <a:prstGeom prst="ellipse">
            <a:avLst/>
          </a:prstGeom>
          <a:solidFill>
            <a:srgbClr val="99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508640"/>
            <a:ext cx="3527640" cy="1726920"/>
          </a:xfrm>
          <a:prstGeom prst="ellipse">
            <a:avLst/>
          </a:prstGeom>
          <a:solidFill>
            <a:srgbClr val="00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4653000"/>
            <a:ext cx="3527640" cy="1727280"/>
          </a:xfrm>
          <a:prstGeom prst="ellipse">
            <a:avLst/>
          </a:prstGeom>
          <a:solidFill>
            <a:srgbClr val="ff0066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edej odpověď na otázku, která tě zají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Jak vypadají Židé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Kde Židé žij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Co mají Židé _x000b_a křesťané společné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Slaví Židé Ván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   a Velikonoce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Znají Židé Bibli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670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619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Arial"/>
              </a:rPr>
              <a:t>Jak vypadají Žid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obrázku je židovský muž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jednom z tradičních oble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šní mladí Židé se ale oblékají podobně jako mladí v jiných zemích na světě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zyk, kterým Židé mluví, se jmenuj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ramejšt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3132000" y="573408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13478" y="3837"/>
                </a:moveTo>
                <a:lnTo>
                  <a:pt x="16054" y="6448"/>
                </a:ln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lnTo>
                  <a:pt x="20441" y="10800"/>
                </a:lnTo>
                <a:lnTo>
                  <a:pt x="18787" y="10800"/>
                </a:lnTo>
                <a:lnTo>
                  <a:pt x="18787" y="17989"/>
                </a:lnTo>
                <a:lnTo>
                  <a:pt x="8168" y="17989"/>
                </a:lnTo>
                <a:lnTo>
                  <a:pt x="8168" y="10800"/>
                </a:lnTo>
                <a:lnTo>
                  <a:pt x="6515" y="10800"/>
                </a:lnTo>
                <a:close/>
              </a:path>
              <a:path fill="darkenLess" w="26955" h="21600">
                <a:moveTo>
                  <a:pt x="16054" y="6448"/>
                </a:move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close/>
              </a:path>
              <a:path fill="darkenLess" w="26955" h="21600">
                <a:moveTo>
                  <a:pt x="12555" y="14299"/>
                </a:moveTo>
                <a:lnTo>
                  <a:pt x="14400" y="14299"/>
                </a:lnTo>
                <a:lnTo>
                  <a:pt x="14400" y="17989"/>
                </a:lnTo>
                <a:lnTo>
                  <a:pt x="18787" y="17989"/>
                </a:lnTo>
                <a:lnTo>
                  <a:pt x="18787" y="10800"/>
                </a:lnTo>
                <a:lnTo>
                  <a:pt x="8168" y="10800"/>
                </a:lnTo>
                <a:lnTo>
                  <a:pt x="8168" y="17989"/>
                </a:lnTo>
                <a:lnTo>
                  <a:pt x="1255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3076" t="2661" r="3381" b="3423"/>
          <a:stretch/>
        </p:blipFill>
        <p:spPr>
          <a:xfrm>
            <a:off x="4627440" y="0"/>
            <a:ext cx="45165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é věří, že dostali svoji zemi od Bo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to země se v Bibli jmenuj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naá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alest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s se jmenuj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zra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  <a:hlinkClick r:id="rId3"/>
          </p:cNvPr>
          <p:cNvSpPr/>
          <p:nvPr/>
        </p:nvSpPr>
        <p:spPr>
          <a:xfrm>
            <a:off x="1042920" y="5661000"/>
            <a:ext cx="1152720" cy="863640"/>
          </a:xfrm>
          <a:custGeom>
            <a:avLst/>
            <a:gdLst>
              <a:gd name="textAreaLeft" fmla="*/ 55800 w 1152720"/>
              <a:gd name="textAreaRight" fmla="*/ 1096920 w 1152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8827" h="21600">
                <a:moveTo>
                  <a:pt x="0" y="0"/>
                </a:moveTo>
                <a:lnTo>
                  <a:pt x="28827" y="0"/>
                </a:lnTo>
                <a:lnTo>
                  <a:pt x="28827" y="21600"/>
                </a:lnTo>
                <a:lnTo>
                  <a:pt x="0" y="21600"/>
                </a:lnTo>
                <a:close/>
              </a:path>
              <a:path fill="lightenLess" w="28827" h="21600">
                <a:moveTo>
                  <a:pt x="0" y="0"/>
                </a:moveTo>
                <a:lnTo>
                  <a:pt x="28827" y="0"/>
                </a:lnTo>
                <a:lnTo>
                  <a:pt x="27427" y="1400"/>
                </a:lnTo>
                <a:lnTo>
                  <a:pt x="1400" y="1400"/>
                </a:lnTo>
                <a:close/>
              </a:path>
              <a:path fill="darken" w="28827" h="21600">
                <a:moveTo>
                  <a:pt x="28827" y="0"/>
                </a:moveTo>
                <a:lnTo>
                  <a:pt x="28827" y="21600"/>
                </a:lnTo>
                <a:lnTo>
                  <a:pt x="27427" y="20200"/>
                </a:lnTo>
                <a:lnTo>
                  <a:pt x="27427" y="1400"/>
                </a:lnTo>
                <a:close/>
              </a:path>
              <a:path fill="darkenLess" w="28827" h="21600">
                <a:moveTo>
                  <a:pt x="28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27" y="20200"/>
                </a:lnTo>
                <a:close/>
              </a:path>
              <a:path fill="lighten" w="28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27" h="21600">
                <a:moveTo>
                  <a:pt x="1441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27" h="21600">
                <a:moveTo>
                  <a:pt x="15519" y="14281"/>
                </a:moveTo>
                <a:lnTo>
                  <a:pt x="15519" y="12323"/>
                </a:lnTo>
                <a:cubicBezTo>
                  <a:pt x="15519" y="11496"/>
                  <a:pt x="15850" y="10800"/>
                  <a:pt x="16450" y="10800"/>
                </a:cubicBezTo>
                <a:cubicBezTo>
                  <a:pt x="17582" y="10800"/>
                  <a:pt x="18478" y="9434"/>
                  <a:pt x="18478" y="7849"/>
                </a:cubicBezTo>
                <a:cubicBezTo>
                  <a:pt x="18478" y="5534"/>
                  <a:pt x="16624" y="3794"/>
                  <a:pt x="14413" y="3794"/>
                </a:cubicBezTo>
                <a:cubicBezTo>
                  <a:pt x="12203" y="3794"/>
                  <a:pt x="10532" y="5534"/>
                  <a:pt x="10532" y="7849"/>
                </a:cubicBezTo>
                <a:lnTo>
                  <a:pt x="12386" y="7849"/>
                </a:lnTo>
                <a:cubicBezTo>
                  <a:pt x="12386" y="6709"/>
                  <a:pt x="13308" y="5821"/>
                  <a:pt x="14413" y="5821"/>
                </a:cubicBezTo>
                <a:cubicBezTo>
                  <a:pt x="15519" y="5821"/>
                  <a:pt x="16450" y="6709"/>
                  <a:pt x="16450" y="7849"/>
                </a:cubicBezTo>
                <a:cubicBezTo>
                  <a:pt x="16450" y="8589"/>
                  <a:pt x="15980" y="9320"/>
                  <a:pt x="15519" y="9320"/>
                </a:cubicBezTo>
                <a:cubicBezTo>
                  <a:pt x="14413" y="9320"/>
                  <a:pt x="13308" y="10800"/>
                  <a:pt x="13308" y="12323"/>
                </a:cubicBezTo>
                <a:lnTo>
                  <a:pt x="13308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Arial"/>
              </a:rPr>
              <a:t>Židovská zem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2627280" y="566100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13478" y="3837"/>
                </a:moveTo>
                <a:lnTo>
                  <a:pt x="16054" y="6448"/>
                </a:ln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lnTo>
                  <a:pt x="20441" y="10800"/>
                </a:lnTo>
                <a:lnTo>
                  <a:pt x="18787" y="10800"/>
                </a:lnTo>
                <a:lnTo>
                  <a:pt x="18787" y="17989"/>
                </a:lnTo>
                <a:lnTo>
                  <a:pt x="8168" y="17989"/>
                </a:lnTo>
                <a:lnTo>
                  <a:pt x="8168" y="10800"/>
                </a:lnTo>
                <a:lnTo>
                  <a:pt x="6515" y="10800"/>
                </a:lnTo>
                <a:close/>
              </a:path>
              <a:path fill="darkenLess" w="26955" h="21600">
                <a:moveTo>
                  <a:pt x="16054" y="6448"/>
                </a:move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close/>
              </a:path>
              <a:path fill="darkenLess" w="26955" h="21600">
                <a:moveTo>
                  <a:pt x="12555" y="14299"/>
                </a:moveTo>
                <a:lnTo>
                  <a:pt x="14400" y="14299"/>
                </a:lnTo>
                <a:lnTo>
                  <a:pt x="14400" y="17989"/>
                </a:lnTo>
                <a:lnTo>
                  <a:pt x="18787" y="17989"/>
                </a:lnTo>
                <a:lnTo>
                  <a:pt x="18787" y="10800"/>
                </a:lnTo>
                <a:lnTo>
                  <a:pt x="8168" y="10800"/>
                </a:lnTo>
                <a:lnTo>
                  <a:pt x="8168" y="17989"/>
                </a:lnTo>
                <a:lnTo>
                  <a:pt x="1255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rcRect l="1650" t="2161" r="2261" b="3465"/>
          <a:stretch/>
        </p:blipFill>
        <p:spPr>
          <a:xfrm>
            <a:off x="0" y="0"/>
            <a:ext cx="4618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88000" y="333360"/>
            <a:ext cx="4174920" cy="1939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Jaké stromy rostou v Izrael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3300"/>
                </a:solidFill>
                <a:latin typeface="Arial"/>
              </a:rPr>
              <a:t>(napoví ti obrázek)</a:t>
            </a:r>
            <a:r>
              <a:rPr b="0" lang="cs-CZ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2565360"/>
            <a:ext cx="3095640" cy="1297080"/>
          </a:xfrm>
          <a:custGeom>
            <a:avLst/>
            <a:gdLst>
              <a:gd name="textAreaLeft" fmla="*/ 152640 w 3095640"/>
              <a:gd name="textAreaRight" fmla="*/ 2943000 w 3095640"/>
              <a:gd name="textAreaTop" fmla="*/ 152640 h 1297080"/>
              <a:gd name="textAreaBottom" fmla="*/ 1144440 h 1297080"/>
            </a:gdLst>
            <a:ahLst/>
            <a:rect l="textAreaLeft" t="textAreaTop" r="textAreaRight" b="textAreaBottom"/>
            <a:pathLst>
              <a:path w="515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943" y="21600"/>
                </a:lnTo>
                <a:arcTo wR="3600" hR="3600" stAng="10800000" swAng="5400000"/>
                <a:lnTo>
                  <a:pt x="51543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iskni mezerní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odpově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4292640"/>
            <a:ext cx="4174920" cy="2207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"/>
              </a:rPr>
              <a:t>Palmy.</a:t>
            </a: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Arial"/>
              </a:rPr>
              <a:t>Když jel Ježíš na oslátku do Jeruzaléma, lidé mu mávali palmovými větve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73408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13478" y="3837"/>
                </a:moveTo>
                <a:lnTo>
                  <a:pt x="16054" y="6448"/>
                </a:ln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lnTo>
                  <a:pt x="20441" y="10800"/>
                </a:lnTo>
                <a:lnTo>
                  <a:pt x="18787" y="10800"/>
                </a:lnTo>
                <a:lnTo>
                  <a:pt x="18787" y="17989"/>
                </a:lnTo>
                <a:lnTo>
                  <a:pt x="8168" y="17989"/>
                </a:lnTo>
                <a:lnTo>
                  <a:pt x="8168" y="10800"/>
                </a:lnTo>
                <a:lnTo>
                  <a:pt x="6515" y="10800"/>
                </a:lnTo>
                <a:close/>
              </a:path>
              <a:path fill="darkenLess" w="26955" h="21600">
                <a:moveTo>
                  <a:pt x="16054" y="6448"/>
                </a:move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close/>
              </a:path>
              <a:path fill="darkenLess" w="26955" h="21600">
                <a:moveTo>
                  <a:pt x="12555" y="14299"/>
                </a:moveTo>
                <a:lnTo>
                  <a:pt x="14400" y="14299"/>
                </a:lnTo>
                <a:lnTo>
                  <a:pt x="14400" y="17989"/>
                </a:lnTo>
                <a:lnTo>
                  <a:pt x="18787" y="17989"/>
                </a:lnTo>
                <a:lnTo>
                  <a:pt x="18787" y="10800"/>
                </a:lnTo>
                <a:lnTo>
                  <a:pt x="8168" y="10800"/>
                </a:lnTo>
                <a:lnTo>
                  <a:pt x="8168" y="17989"/>
                </a:lnTo>
                <a:lnTo>
                  <a:pt x="1255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7400" cy="6335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7680" y="259920"/>
            <a:ext cx="412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Arial"/>
              </a:rPr>
              <a:t>Židé věří v Bo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dé se modlí k Bohu jako křesťané. Jako první ho poznal asi před 4 000 lety praotec víry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brah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ří Židé uvěřili před 2 000 le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Ježíše Krista jako Syna Božího a stali se křesť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805360"/>
            <a:ext cx="1079640" cy="86544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6944" h="21600">
                <a:moveTo>
                  <a:pt x="0" y="0"/>
                </a:moveTo>
                <a:lnTo>
                  <a:pt x="26944" y="0"/>
                </a:lnTo>
                <a:lnTo>
                  <a:pt x="26944" y="21600"/>
                </a:lnTo>
                <a:lnTo>
                  <a:pt x="0" y="21600"/>
                </a:lnTo>
                <a:close/>
              </a:path>
              <a:path fill="lightenLess" w="26944" h="21600">
                <a:moveTo>
                  <a:pt x="0" y="0"/>
                </a:moveTo>
                <a:lnTo>
                  <a:pt x="26944" y="0"/>
                </a:lnTo>
                <a:lnTo>
                  <a:pt x="25544" y="1400"/>
                </a:lnTo>
                <a:lnTo>
                  <a:pt x="1400" y="1400"/>
                </a:lnTo>
                <a:close/>
              </a:path>
              <a:path fill="darken" w="26944" h="21600">
                <a:moveTo>
                  <a:pt x="26944" y="0"/>
                </a:moveTo>
                <a:lnTo>
                  <a:pt x="26944" y="21600"/>
                </a:lnTo>
                <a:lnTo>
                  <a:pt x="25544" y="20200"/>
                </a:lnTo>
                <a:lnTo>
                  <a:pt x="25544" y="1400"/>
                </a:lnTo>
                <a:close/>
              </a:path>
              <a:path fill="darkenLess" w="26944" h="21600">
                <a:moveTo>
                  <a:pt x="26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4" y="20200"/>
                </a:lnTo>
                <a:close/>
              </a:path>
              <a:path fill="lighten" w="26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4" h="21600">
                <a:moveTo>
                  <a:pt x="13472" y="3837"/>
                </a:moveTo>
                <a:lnTo>
                  <a:pt x="16048" y="6448"/>
                </a:lnTo>
                <a:lnTo>
                  <a:pt x="16048" y="4707"/>
                </a:lnTo>
                <a:lnTo>
                  <a:pt x="17824" y="4707"/>
                </a:lnTo>
                <a:lnTo>
                  <a:pt x="17824" y="8224"/>
                </a:lnTo>
                <a:lnTo>
                  <a:pt x="20435" y="10800"/>
                </a:lnTo>
                <a:lnTo>
                  <a:pt x="18781" y="10800"/>
                </a:lnTo>
                <a:lnTo>
                  <a:pt x="18781" y="17989"/>
                </a:lnTo>
                <a:lnTo>
                  <a:pt x="8163" y="17989"/>
                </a:lnTo>
                <a:lnTo>
                  <a:pt x="8163" y="10800"/>
                </a:lnTo>
                <a:lnTo>
                  <a:pt x="6509" y="10800"/>
                </a:lnTo>
                <a:close/>
              </a:path>
              <a:path fill="darkenLess" w="26944" h="21600">
                <a:moveTo>
                  <a:pt x="16048" y="6448"/>
                </a:moveTo>
                <a:lnTo>
                  <a:pt x="16048" y="4707"/>
                </a:lnTo>
                <a:lnTo>
                  <a:pt x="17824" y="4707"/>
                </a:lnTo>
                <a:lnTo>
                  <a:pt x="17824" y="8224"/>
                </a:lnTo>
                <a:close/>
              </a:path>
              <a:path fill="darkenLess" w="26944" h="21600">
                <a:moveTo>
                  <a:pt x="12549" y="14299"/>
                </a:moveTo>
                <a:lnTo>
                  <a:pt x="14395" y="14299"/>
                </a:lnTo>
                <a:lnTo>
                  <a:pt x="14395" y="17989"/>
                </a:lnTo>
                <a:lnTo>
                  <a:pt x="18781" y="17989"/>
                </a:lnTo>
                <a:lnTo>
                  <a:pt x="18781" y="10800"/>
                </a:lnTo>
                <a:lnTo>
                  <a:pt x="8163" y="10800"/>
                </a:lnTo>
                <a:lnTo>
                  <a:pt x="8163" y="17989"/>
                </a:lnTo>
                <a:lnTo>
                  <a:pt x="12549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  <a:hlinkClick r:id="rId3"/>
          </p:cNvPr>
          <p:cNvSpPr/>
          <p:nvPr/>
        </p:nvSpPr>
        <p:spPr>
          <a:xfrm>
            <a:off x="1332000" y="5805360"/>
            <a:ext cx="1152360" cy="863640"/>
          </a:xfrm>
          <a:custGeom>
            <a:avLst/>
            <a:gdLst>
              <a:gd name="textAreaLeft" fmla="*/ 55800 w 1152360"/>
              <a:gd name="textAreaRight" fmla="*/ 1096560 w 1152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18" h="21600">
                <a:moveTo>
                  <a:pt x="15514" y="14281"/>
                </a:moveTo>
                <a:lnTo>
                  <a:pt x="15514" y="12323"/>
                </a:lnTo>
                <a:cubicBezTo>
                  <a:pt x="15514" y="11496"/>
                  <a:pt x="15845" y="10800"/>
                  <a:pt x="16446" y="10800"/>
                </a:cubicBezTo>
                <a:cubicBezTo>
                  <a:pt x="17577" y="10800"/>
                  <a:pt x="18474" y="9434"/>
                  <a:pt x="18474" y="7849"/>
                </a:cubicBezTo>
                <a:cubicBezTo>
                  <a:pt x="18474" y="5534"/>
                  <a:pt x="16620" y="3794"/>
                  <a:pt x="14409" y="3794"/>
                </a:cubicBezTo>
                <a:cubicBezTo>
                  <a:pt x="12198" y="3794"/>
                  <a:pt x="10527" y="5534"/>
                  <a:pt x="10527" y="7849"/>
                </a:cubicBezTo>
                <a:lnTo>
                  <a:pt x="12381" y="7849"/>
                </a:lnTo>
                <a:cubicBezTo>
                  <a:pt x="12381" y="6709"/>
                  <a:pt x="13304" y="5821"/>
                  <a:pt x="14409" y="5821"/>
                </a:cubicBezTo>
                <a:cubicBezTo>
                  <a:pt x="15514" y="5821"/>
                  <a:pt x="16446" y="6709"/>
                  <a:pt x="16446" y="7849"/>
                </a:cubicBezTo>
                <a:cubicBezTo>
                  <a:pt x="16446" y="8589"/>
                  <a:pt x="15976" y="9320"/>
                  <a:pt x="15514" y="9320"/>
                </a:cubicBezTo>
                <a:cubicBezTo>
                  <a:pt x="14409" y="9320"/>
                  <a:pt x="13304" y="10800"/>
                  <a:pt x="13304" y="12323"/>
                </a:cubicBezTo>
                <a:lnTo>
                  <a:pt x="13304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Собор 12 апостолов. Храмовая икона церкви Двенадцати Апостолов &quot;на пропостях&quot; в Новгороде Великом. Около 1432 года. Новгородский музей "/>
          <p:cNvPicPr/>
          <p:nvPr/>
        </p:nvPicPr>
        <p:blipFill>
          <a:blip r:embed="rId2"/>
          <a:stretch/>
        </p:blipFill>
        <p:spPr>
          <a:xfrm>
            <a:off x="4365720" y="0"/>
            <a:ext cx="47782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333360"/>
            <a:ext cx="3816360" cy="1631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Byli apoštolov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Židy nebo křesťany?</a:t>
            </a:r>
            <a:r>
              <a:rPr b="0" lang="cs-CZ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933720"/>
            <a:ext cx="3960720" cy="26762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"/>
              </a:rPr>
              <a:t>Apoštolové byli Žid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"/>
              </a:rPr>
              <a:t>Uvěřili, že Ježíš je Boží Syn a stali se křesťany.</a:t>
            </a: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276640"/>
            <a:ext cx="3095640" cy="1296720"/>
          </a:xfrm>
          <a:custGeom>
            <a:avLst/>
            <a:gdLst>
              <a:gd name="textAreaLeft" fmla="*/ 152640 w 3095640"/>
              <a:gd name="textAreaRight" fmla="*/ 2943000 w 3095640"/>
              <a:gd name="textAreaTop" fmla="*/ 152640 h 1296720"/>
              <a:gd name="textAreaBottom" fmla="*/ 1144080 h 1296720"/>
            </a:gdLst>
            <a:ahLst/>
            <a:rect l="textAreaLeft" t="textAreaTop" r="textAreaRight" b="textAreaBottom"/>
            <a:pathLst>
              <a:path w="5155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957" y="21600"/>
                </a:lnTo>
                <a:arcTo wR="3600" hR="3600" stAng="10800000" swAng="5400000"/>
                <a:lnTo>
                  <a:pt x="51557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iskni mezerní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odpově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5805360"/>
            <a:ext cx="1079640" cy="86544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6944" h="21600">
                <a:moveTo>
                  <a:pt x="0" y="0"/>
                </a:moveTo>
                <a:lnTo>
                  <a:pt x="26944" y="0"/>
                </a:lnTo>
                <a:lnTo>
                  <a:pt x="26944" y="21600"/>
                </a:lnTo>
                <a:lnTo>
                  <a:pt x="0" y="21600"/>
                </a:lnTo>
                <a:close/>
              </a:path>
              <a:path fill="lightenLess" w="26944" h="21600">
                <a:moveTo>
                  <a:pt x="0" y="0"/>
                </a:moveTo>
                <a:lnTo>
                  <a:pt x="26944" y="0"/>
                </a:lnTo>
                <a:lnTo>
                  <a:pt x="25544" y="1400"/>
                </a:lnTo>
                <a:lnTo>
                  <a:pt x="1400" y="1400"/>
                </a:lnTo>
                <a:close/>
              </a:path>
              <a:path fill="darken" w="26944" h="21600">
                <a:moveTo>
                  <a:pt x="26944" y="0"/>
                </a:moveTo>
                <a:lnTo>
                  <a:pt x="26944" y="21600"/>
                </a:lnTo>
                <a:lnTo>
                  <a:pt x="25544" y="20200"/>
                </a:lnTo>
                <a:lnTo>
                  <a:pt x="25544" y="1400"/>
                </a:lnTo>
                <a:close/>
              </a:path>
              <a:path fill="darkenLess" w="26944" h="21600">
                <a:moveTo>
                  <a:pt x="26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4" y="20200"/>
                </a:lnTo>
                <a:close/>
              </a:path>
              <a:path fill="lighten" w="26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4" h="21600">
                <a:moveTo>
                  <a:pt x="13472" y="3837"/>
                </a:moveTo>
                <a:lnTo>
                  <a:pt x="16048" y="6448"/>
                </a:lnTo>
                <a:lnTo>
                  <a:pt x="16048" y="4707"/>
                </a:lnTo>
                <a:lnTo>
                  <a:pt x="17824" y="4707"/>
                </a:lnTo>
                <a:lnTo>
                  <a:pt x="17824" y="8224"/>
                </a:lnTo>
                <a:lnTo>
                  <a:pt x="20435" y="10800"/>
                </a:lnTo>
                <a:lnTo>
                  <a:pt x="18781" y="10800"/>
                </a:lnTo>
                <a:lnTo>
                  <a:pt x="18781" y="17989"/>
                </a:lnTo>
                <a:lnTo>
                  <a:pt x="8163" y="17989"/>
                </a:lnTo>
                <a:lnTo>
                  <a:pt x="8163" y="10800"/>
                </a:lnTo>
                <a:lnTo>
                  <a:pt x="6509" y="10800"/>
                </a:lnTo>
                <a:close/>
              </a:path>
              <a:path fill="darkenLess" w="26944" h="21600">
                <a:moveTo>
                  <a:pt x="16048" y="6448"/>
                </a:moveTo>
                <a:lnTo>
                  <a:pt x="16048" y="4707"/>
                </a:lnTo>
                <a:lnTo>
                  <a:pt x="17824" y="4707"/>
                </a:lnTo>
                <a:lnTo>
                  <a:pt x="17824" y="8224"/>
                </a:lnTo>
                <a:close/>
              </a:path>
              <a:path fill="darkenLess" w="26944" h="21600">
                <a:moveTo>
                  <a:pt x="12549" y="14299"/>
                </a:moveTo>
                <a:lnTo>
                  <a:pt x="14395" y="14299"/>
                </a:lnTo>
                <a:lnTo>
                  <a:pt x="14395" y="17989"/>
                </a:lnTo>
                <a:lnTo>
                  <a:pt x="18781" y="17989"/>
                </a:lnTo>
                <a:lnTo>
                  <a:pt x="18781" y="10800"/>
                </a:lnTo>
                <a:lnTo>
                  <a:pt x="8163" y="10800"/>
                </a:lnTo>
                <a:lnTo>
                  <a:pt x="8163" y="17989"/>
                </a:lnTo>
                <a:lnTo>
                  <a:pt x="12549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Arial"/>
              </a:rPr>
              <a:t>Bible je nejposvátnější kniha Žid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352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é mají Bibli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úctě jako posvátný spis, skrze který k nim hovoří Bů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ovská Bible je psán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ebrejs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v této řeči se jí řík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ANA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780000" y="1413000"/>
            <a:ext cx="5111640" cy="482580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84360" y="5516640"/>
            <a:ext cx="1223640" cy="865080"/>
          </a:xfrm>
          <a:custGeom>
            <a:avLst/>
            <a:gdLst>
              <a:gd name="textAreaLeft" fmla="*/ 55800 w 1223640"/>
              <a:gd name="textAreaRight" fmla="*/ 1167840 w 1223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0549" h="21600">
                <a:moveTo>
                  <a:pt x="0" y="0"/>
                </a:moveTo>
                <a:lnTo>
                  <a:pt x="30549" y="0"/>
                </a:lnTo>
                <a:lnTo>
                  <a:pt x="30549" y="21600"/>
                </a:lnTo>
                <a:lnTo>
                  <a:pt x="0" y="21600"/>
                </a:lnTo>
                <a:close/>
              </a:path>
              <a:path fill="lightenLess" w="30549" h="21600">
                <a:moveTo>
                  <a:pt x="0" y="0"/>
                </a:moveTo>
                <a:lnTo>
                  <a:pt x="30549" y="0"/>
                </a:lnTo>
                <a:lnTo>
                  <a:pt x="29149" y="1400"/>
                </a:lnTo>
                <a:lnTo>
                  <a:pt x="1400" y="1400"/>
                </a:lnTo>
                <a:close/>
              </a:path>
              <a:path fill="darken" w="30549" h="21600">
                <a:moveTo>
                  <a:pt x="30549" y="0"/>
                </a:moveTo>
                <a:lnTo>
                  <a:pt x="30549" y="21600"/>
                </a:lnTo>
                <a:lnTo>
                  <a:pt x="29149" y="20200"/>
                </a:lnTo>
                <a:lnTo>
                  <a:pt x="29149" y="1400"/>
                </a:lnTo>
                <a:close/>
              </a:path>
              <a:path fill="darkenLess" w="30549" h="21600">
                <a:moveTo>
                  <a:pt x="30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49" y="20200"/>
                </a:lnTo>
                <a:close/>
              </a:path>
              <a:path fill="lighten" w="30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49" h="21600">
                <a:moveTo>
                  <a:pt x="8268" y="3794"/>
                </a:moveTo>
                <a:lnTo>
                  <a:pt x="22281" y="10800"/>
                </a:lnTo>
                <a:lnTo>
                  <a:pt x="8268" y="17806"/>
                </a:lnTo>
                <a:close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551664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13478" y="3837"/>
                </a:moveTo>
                <a:lnTo>
                  <a:pt x="16054" y="6448"/>
                </a:ln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lnTo>
                  <a:pt x="20441" y="10800"/>
                </a:lnTo>
                <a:lnTo>
                  <a:pt x="18787" y="10800"/>
                </a:lnTo>
                <a:lnTo>
                  <a:pt x="18787" y="17989"/>
                </a:lnTo>
                <a:lnTo>
                  <a:pt x="8168" y="17989"/>
                </a:lnTo>
                <a:lnTo>
                  <a:pt x="8168" y="10800"/>
                </a:lnTo>
                <a:lnTo>
                  <a:pt x="6515" y="10800"/>
                </a:lnTo>
                <a:close/>
              </a:path>
              <a:path fill="darkenLess" w="26955" h="21600">
                <a:moveTo>
                  <a:pt x="16054" y="6448"/>
                </a:move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close/>
              </a:path>
              <a:path fill="darkenLess" w="26955" h="21600">
                <a:moveTo>
                  <a:pt x="12555" y="14299"/>
                </a:moveTo>
                <a:lnTo>
                  <a:pt x="14400" y="14299"/>
                </a:lnTo>
                <a:lnTo>
                  <a:pt x="14400" y="17989"/>
                </a:lnTo>
                <a:lnTo>
                  <a:pt x="18787" y="17989"/>
                </a:lnTo>
                <a:lnTo>
                  <a:pt x="18787" y="10800"/>
                </a:lnTo>
                <a:lnTo>
                  <a:pt x="8168" y="10800"/>
                </a:lnTo>
                <a:lnTo>
                  <a:pt x="8168" y="17989"/>
                </a:lnTo>
                <a:lnTo>
                  <a:pt x="1255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2:54:36Z</dcterms:created>
  <dc:creator>Ing. Mgr. Marie Zimmermannová</dc:creator>
  <dc:description/>
  <dc:language>en-US</dc:language>
  <cp:lastModifiedBy>Ing. Mgr. Marie Zimmermannová</cp:lastModifiedBy>
  <dcterms:modified xsi:type="dcterms:W3CDTF">2009-04-28T18:16:17Z</dcterms:modified>
  <cp:revision>133</cp:revision>
  <dc:subject/>
  <dc:title>Židovské symboly</dc:title>
</cp:coreProperties>
</file>